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11C-69B0-4138-BC35-040FD073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43E-109A-4E1E-B6F2-1AF0DA15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28A-D726-430D-BA06-120E23D0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5D5-DE7F-489A-BE77-9149AEB3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A02-A795-419E-A4D8-00DCB63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B42-8C3F-460F-8C5A-592C02C1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91D-E800-4928-8488-FC2B4B4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977-3AF5-4048-B6D0-9279CC8B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C00-3B30-4FB7-9F7D-2EAF1F8A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CBE-BABC-4737-8D33-4FFACB3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9F4-0D25-45C4-BCD6-79E24819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5EA-CDEA-4534-88C0-78C3B365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40F8-F53F-4DDD-B313-42F3594649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240" y="2286000"/>
            <a:ext cx="77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w Can Exposu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 Misclassified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209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464832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80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391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391520" cy="86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14400" y="3276720"/>
            <a:ext cx="739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79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1143000"/>
            <a:ext cx="39625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791320" y="2057400"/>
            <a:ext cx="6094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4572000"/>
            <a:ext cx="4572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flipH="1" rot="10800000">
            <a:off x="5791320" y="198108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 flipH="1" rot="10800000">
            <a:off x="6858000" y="4495680"/>
            <a:ext cx="6094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54480" y="88884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Expos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5791320"/>
            <a:ext cx="53341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63868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5638680" cy="2590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5867280"/>
            <a:ext cx="44197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2210040" cy="5562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095880" y="45720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133720" y="5867280"/>
            <a:ext cx="243828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20574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467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243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769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696440" cy="61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6964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696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2895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5:25:16Z</dcterms:modified>
  <cp:revision>216</cp:revision>
  <dc:subject/>
  <dc:title>Slide 1</dc:title>
</cp:coreProperties>
</file>